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08CF5-FA9C-4C55-88CA-129B407D1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B2B7-CD31-480C-B1E5-71EC20BAA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31B5B-CA23-464D-87F9-6B1CD2ACF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6CE73-9E3D-45BF-A7E9-C35B1342F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AC6DD-8052-4CC6-8FEC-E44B50702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99872-A47F-458F-8F79-D3070489F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D77AA-4EF5-48B3-A18A-89FF3F0FA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0F36F-7021-4EE1-9B0A-049A5069F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331FF-F5C2-4C9B-A50B-14A054ECD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9B8FE-B53E-43D8-B2E8-8E2798882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11ECB-43FA-4E92-A420-03BED0501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4945-DCD0-4406-985C-984B81FA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64FD-A32E-4B3D-8D3E-BB15E9D7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25967-D007-4B34-BF67-A75CC4D0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EA12E-EBB4-4C62-9D83-89214EF9D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9F5B4-44C1-4887-90A6-1B0532C92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C1B63-5A24-4EF3-A978-BEFA9D7F6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1E3FA-14A0-4FDA-9CF0-202F5603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F6AE1-D07C-4267-8FB3-C6B1D76D7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821F-45E6-4A42-AFB8-35E8CE7C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8029-F5AE-445A-B3EE-21372B4F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C526-D41D-4E93-B555-A38D09A8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EB9F-2FBA-4190-9E78-8860A980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6C7D-F7B8-4270-80DD-C9FC68845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5FDF-1B25-42B7-9FD1-DB0999F11C5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397D-B37C-447B-9478-A386752B25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a:rPr>
              <a:t>English</a:t>
            </a:r>
            <a:endParaRPr b="1" lang="en-US" sz="6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66"/>
                </a:solidFill>
                <a:latin typeface="Arial"/>
              </a:rPr>
              <a:t>Oct. 6</a:t>
            </a:r>
            <a:endParaRPr b="0" lang="en-US" sz="4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 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ish power point present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 8</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66"/>
                </a:solidFill>
                <a:latin typeface="Arial"/>
              </a:rPr>
              <a:t>Homework-Read ch. 8</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13:18Z</dcterms:created>
  <dc:creator>VMS</dc:creator>
  <dc:description/>
  <dc:language>en-US</dc:language>
  <cp:lastModifiedBy>VMS</cp:lastModifiedBy>
  <dcterms:modified xsi:type="dcterms:W3CDTF">2009-10-07T19:00:16Z</dcterms:modified>
  <cp:revision>4</cp:revision>
  <dc:subject/>
  <dc:title>English</dc:title>
</cp:coreProperties>
</file>